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96F-329F-40AC-A62B-847155D6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836-5776-4C12-B2D6-7DA9FA3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6A3-EB16-408D-A1A5-1BCAAF99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67C-FFE0-4F8C-AE2B-0561ABC6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E9F-F0C2-4D28-AB6B-B036ADB6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AFE-71DA-43C5-80C3-189F454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2E1-6A37-4C7D-A68E-CF3DE9CD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D9F-FAD9-43A6-A1CD-910D1FF9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C42-D401-4142-8FA4-D436D2FA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C58-EB28-47B8-A1F9-C668108E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389-8DA9-4EAC-B5DC-EA3340FF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C4C-2319-4BC6-9D42-3B33634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6FCA-D8A7-4811-A73D-8305B5551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3282" t="45834" r="36720" b="28124"/>
          <a:stretch/>
        </p:blipFill>
        <p:spPr>
          <a:xfrm>
            <a:off x="0" y="1905120"/>
            <a:ext cx="8610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467" t="13540" r="28908" b="31250"/>
          <a:stretch/>
        </p:blipFill>
        <p:spPr>
          <a:xfrm>
            <a:off x="0" y="611280"/>
            <a:ext cx="91440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032" t="14584" r="28126" b="30211"/>
          <a:stretch/>
        </p:blipFill>
        <p:spPr>
          <a:xfrm>
            <a:off x="0" y="91440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5467" t="14584" r="29687" b="32293"/>
          <a:stretch/>
        </p:blipFill>
        <p:spPr>
          <a:xfrm>
            <a:off x="0" y="358920"/>
            <a:ext cx="91440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7032" t="15627" r="29687" b="31250"/>
          <a:stretch/>
        </p:blipFill>
        <p:spPr>
          <a:xfrm>
            <a:off x="0" y="55080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467" t="14584" r="28908" b="32293"/>
          <a:stretch/>
        </p:blipFill>
        <p:spPr>
          <a:xfrm>
            <a:off x="0" y="457200"/>
            <a:ext cx="9144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6250" t="14584" r="26564" b="32293"/>
          <a:stretch/>
        </p:blipFill>
        <p:spPr>
          <a:xfrm>
            <a:off x="0" y="14616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44" t="54171" r="37502" b="17709"/>
          <a:stretch/>
        </p:blipFill>
        <p:spPr>
          <a:xfrm>
            <a:off x="0" y="87012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282" t="44795" r="34376" b="28124"/>
          <a:stretch/>
        </p:blipFill>
        <p:spPr>
          <a:xfrm>
            <a:off x="0" y="1371600"/>
            <a:ext cx="90676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4844" t="46877" r="35158" b="27086"/>
          <a:stretch/>
        </p:blipFill>
        <p:spPr>
          <a:xfrm>
            <a:off x="228600" y="1447920"/>
            <a:ext cx="86868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88" t="9376" r="5467" b="11458"/>
          <a:stretch/>
        </p:blipFill>
        <p:spPr>
          <a:xfrm>
            <a:off x="0" y="12852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467" t="12502" r="7811" b="8333"/>
          <a:stretch/>
        </p:blipFill>
        <p:spPr>
          <a:xfrm>
            <a:off x="0" y="37296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4688" t="14584" r="25782" b="31250"/>
          <a:stretch/>
        </p:blipFill>
        <p:spPr>
          <a:xfrm>
            <a:off x="0" y="22068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032" t="13540" r="25003" b="31250"/>
          <a:stretch/>
        </p:blipFill>
        <p:spPr>
          <a:xfrm>
            <a:off x="0" y="45720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467" t="15627" r="28908" b="31250"/>
          <a:stretch/>
        </p:blipFill>
        <p:spPr>
          <a:xfrm>
            <a:off x="0" y="636480"/>
            <a:ext cx="9144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4:56:41Z</dcterms:created>
  <dc:creator>nbdoe</dc:creator>
  <dc:description/>
  <dc:language>en-US</dc:language>
  <cp:lastModifiedBy>nbdoe</cp:lastModifiedBy>
  <dcterms:modified xsi:type="dcterms:W3CDTF">2007-02-18T19:17:01Z</dcterms:modified>
  <cp:revision>3</cp:revision>
  <dc:subject/>
  <dc:title>Slide 1</dc:title>
</cp:coreProperties>
</file>